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EC08035-398A-492C-8B30-A832FCA78A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3104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 KM Potent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iew Guidelin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Is your department involved in cross-functional projects or projects with external parti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9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20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20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o all members of the teams/ projects mentioned above have sufficient access to upto date information and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Collaboration &amp; Teamwork (6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your suggestions to improve collaboration and teamwork in the projects of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your preferred search strategies (Keyword search, advanced search with AND/ OR connections, browsing through topic catalogues, asking collegues, placing questions in discussion board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w much time do you spend on average every day on searching for informat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1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2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2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types of information are you typically searching for to fullfill your job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In which internal systems are you searching for information ?  List the systems in order of impor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information types that are especially hard to find. What makes searching and finding so difficult in these cas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3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4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4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60692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at are your suggestions to improve the process of searching and finding the information that you need in your department/divi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To which systems should your team members have acces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Name the systems that mostly support the flow of information within and outside your division/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ich IT Systems, Tools are used in your division/department (short description of system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259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64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269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IT-System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6280" y="101520"/>
            <a:ext cx="883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Überblick Interviewleitfa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1846440"/>
            <a:ext cx="2234880" cy="5648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A. Strategy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2280" y="2629080"/>
            <a:ext cx="2247840" cy="5666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B.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4880" y="3344760"/>
            <a:ext cx="2235240" cy="57960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. Informa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2800" y="410364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D. Collaboration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2800" y="556272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. IT-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2800" y="484668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E. Searching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400" y="906480"/>
            <a:ext cx="7913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idelines for interviews with department managers and team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6080" y="45180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Roles and how many employees are working in your division/un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600" y="270828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internal organisational structure of your division/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56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61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66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A. Strategy / Organisa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440" y="961920"/>
            <a:ext cx="884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strategic importance of a portal for your division/organisational 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Name the core processes were searching, processing and distributing information plays a major ro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process interfaces with other departments/unit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77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82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87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at are the core processes of your unit/ divison ?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7120" y="27860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Select one process and describe which documents and information is created during which process step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52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the typical problems/ friction losses in your core-process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98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10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108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an all parties involved in these core processess access the latest information and documents without problems ?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within your unit/divisio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nd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ccross divisions/departments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lease distinguish between formal and informal flow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1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2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2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flow of information within and across divisions based on a core 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suggestions for improving the flow of information and the access to information do you have for your division/department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402120" indent="-301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the knowledge areas that are most important for your division/departm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.g knowledge on procedures, regulations, laws, methodology, programming languages, competitive information, market trends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3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4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4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Which company internal sources of information are you us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external sources of information are you using frequently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ite, journals, ...)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types of information/ documents originate in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5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6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6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Which of this information/ documents are of  relevance for other units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3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 How is this information/ documents distributed within your organisation ? Destinguish between formal and informal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How do you structure your information/documents ? Are there guidelines for storage structures and naming conventions for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7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8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8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Are you using properties or metadata to tag your documents for improved search and reti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What are your suggestions for improving the management of documents and information within your division/departmen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2-14T10:55:06Z</dcterms:modified>
  <cp:revision>558</cp:revision>
  <dc:subject/>
  <dc:title>EP Sample High Level Content Specification </dc:title>
</cp:coreProperties>
</file>